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AC139-80D8-4B65-A640-6284919375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D772-3C69-44F9-A3BC-BC92FD3B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A235-ED81-4FB7-BC9F-8E6489C2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B5FF-0F45-4BFA-A44C-72B6B8AF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12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668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12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668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8864-994B-4274-AD90-3AD6EE29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956B-5657-4993-A2FD-CBD1B7AEA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05FF-EBB4-421C-A003-7D10C314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394D-D196-403B-A68A-A5E62F0F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9746-7F33-4441-8D7A-D76B8F71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1CF4-5C60-4516-ACE2-5ACA6465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35880" cy="59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44D6-7069-41BC-89D9-40DDC82E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B9D7-0948-44AA-9A59-B46B4265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C393-9063-4B63-94C3-D2AABC99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E75D-4B82-48F3-AC5D-8B85F26D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2448-5F14-464B-B3C5-28361796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B31D-E54A-45EF-B4BB-89BC7692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AEB3-7F63-474B-9D22-429F498A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712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668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712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668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8D2D-38A6-451B-9C50-40AA0B29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12F48-4315-41CF-92A4-0C436068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02BF4-DB53-47E2-B476-CB3EECA7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36006-BF55-4DC0-A87E-826230AD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6A4D6-1FCC-4AD8-8F95-D6C07682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965D8-5E55-453E-8FE3-FD6BFA39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6F82-D754-42E7-B493-93439B90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35880" cy="59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587FF-67F5-44A2-9F3E-3E6888EE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AC429-F569-4EE3-9497-7C869743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D83E2-4DD7-4630-8587-5F9D3F4F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AB4DE-EFE7-44A0-8DAB-FEDD5F43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F5CFD-8591-49A7-A0C2-FECF837C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435CE-8679-4A7D-817D-2A9379B5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712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1668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712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1668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76F16-E963-4B7B-85CC-2A60D409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3F75E-3A62-4D85-9E45-4C67D22F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F8058-D224-41DF-935A-4DFE27BA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FD042-3F1E-43BE-836F-BC57D8DE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19D2-086E-49CF-ADD6-54F662E0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429C2-B4DC-48B9-9312-2F5135D2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E44A1-8AE9-4832-AACB-A886932C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35880" cy="59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0CBDF-72DD-41E9-A05E-CA503C45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86A07-3994-4BBE-A70E-F985B774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6505C-1641-4622-BE94-629399C2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1E010-C3EE-4E3F-943C-E48D15B4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C3BD8-B2FF-4E1E-9C14-587C5E14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1A98D-E0A2-4EF2-8FA5-EF862669D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712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16680" y="171936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712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16680" y="4019400"/>
            <a:ext cx="26470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CBF28-3BE7-4920-8293-7CBB6E13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CEA0-FA31-4736-B539-5E00495A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35880" cy="59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5071-99E6-4403-B0C6-ABFEA6A4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F54C-8BB1-4072-A474-9AE83920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9920" y="401940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522A-4579-49F5-9780-A7AC70DD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920" y="1719360"/>
            <a:ext cx="401184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940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6BE6-A31A-4AB9-9D6C-78B2FC5E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71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3320" indent="-29052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0840" indent="-30816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5370F-70FC-4973-AD1C-2F8731A459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73760" cy="21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58A8E-E7E6-49CF-B44B-471C689286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w="381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71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3320" indent="-29052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0840" indent="-30816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73760" cy="21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000DE-64BD-4952-B7D5-7EB5E7086C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w="381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71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3320" indent="-29052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0840" indent="-30816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71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3320" indent="-29052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0840" indent="-30816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0840" indent="-308160">
              <a:lnSpc>
                <a:spcPct val="71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E0444-7723-4DD0-8D6B-B07B1BD5EB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lwn.net/Articles/339641" TargetMode="External"/><Relationship Id="rId2" Type="http://schemas.openxmlformats.org/officeDocument/2006/relationships/hyperlink" Target="http://lkml.org/lkml/2009/5/18/289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wn.net/Articles/299483" TargetMode="External"/><Relationship Id="rId2" Type="http://schemas.openxmlformats.org/officeDocument/2006/relationships/hyperlink" Target="http://lwn.net/Articles/314808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eople.redhat.com/srostedt/ftrace-world.odp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lwn.net/" TargetMode="External"/><Relationship Id="rId2" Type="http://schemas.openxmlformats.org/officeDocument/2006/relationships/hyperlink" Target="http://www.lwn.net/" TargetMode="External"/><Relationship Id="rId3" Type="http://schemas.openxmlformats.org/officeDocument/2006/relationships/hyperlink" Target="http://www.lwn.net/" TargetMode="External"/><Relationship Id="rId4" Type="http://schemas.openxmlformats.org/officeDocument/2006/relationships/hyperlink" Target="http://elinux.org/" TargetMode="External"/><Relationship Id="rId5" Type="http://schemas.openxmlformats.org/officeDocument/2006/relationships/hyperlink" Target="http://elinux.org/" TargetMode="External"/><Relationship Id="rId6" Type="http://schemas.openxmlformats.org/officeDocument/2006/relationships/hyperlink" Target="http://elinux.org/" TargetMode="External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1908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76360" y="653760"/>
            <a:ext cx="678168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00000" y="30686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685800"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us o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8298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bedded Kernel Featur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456400" cy="18385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692360" y="5589720"/>
            <a:ext cx="624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 Bird - CELF AG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2.6.31-rc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trace fil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kmemlea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</a:rPr>
              <a:t>Technology Areas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979280" y="3468240"/>
            <a:ext cx="624852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chnology Are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le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ystem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al-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ootup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Syste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quash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pressed, read-only 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inlined in 2.6.2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lly nice to finally get into ker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TR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eck-pointing log-structured fil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inlined in 2.6.29, BUT STILL EXPERIMEN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e http://www.linux-mag.com/id/73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71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IL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ILFS = New Implementation of a Log-Structured 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inous checkpointing, ability to snapsh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inlined in 2.6.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71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e http://www.nilfs.or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Systems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6868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atches of interes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FAT patent worka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attempts by Andrew Tridgell to work around Microsoft VFAT long-name pa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rst attempt was controversial, because functionality was 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73320" indent="-2905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w approach preserves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lwn.net/Articles/3396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FS-based union 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7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lkml.org/lkml/2009/5/18/2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ome log-structured file system is needed for fast mount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sibly NILFS or BTRFS will fill this 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ystem Size / Mem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ZMA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for LZMA kernel image com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ill would like to see generic LZMA support in kernel (for e.g. SquashF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73320" indent="-29052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ttp://www.squashfs-lzma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ompressed SWAP in RA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Reported at last Jamboree by Kosaki-s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m_notify pat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lso reported at last Jambore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ore on this la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Bootup Ti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Bootup time is now a hot topic (due to netbook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tel 5-second boot on Mobl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lwn.net/Articles/2994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synchronous function ca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lined in 2.6.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lwn.net/Articles/3148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500" spc="-1" strike="noStrike">
                <a:solidFill>
                  <a:srgbClr val="000000"/>
                </a:solidFill>
                <a:latin typeface="Arial"/>
              </a:rPr>
              <a:t>scripts/bootgraph.pl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for visualization of initca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w Readahead techniqu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ggressive application optimizations (especially for X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tr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TT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ystemT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erf Coun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Tra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s a new system to provide kernel trac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eneric framework for adding tracing to the 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s multiple tracers, selectable at run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frastructure for tracepoint definition, data capture (ring buffer), tracer control and trace out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re mainlined in 2.6.2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re bits coming (generic filtering in 2.6.3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people.redhat.com/srostedt/ftrace-world.od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al-ti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T-preem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errupt thre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Mainlined 2.6.3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leeping Spinl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omas Gleixner and Ingo Molnar got busy with other stuf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Maybe a push to mainline this Fal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Xenom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ual-kernel Real-time ker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ccessor to Adeos/I-Pi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e http://www.xenomai.or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rnel Ver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ology Ar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rib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wer Manag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akelocks submitted by Google in Janu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ernel PM developers rejected the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ut at least this resulted in a discussion of the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e http://lwn.net/Articles/3186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-work of runtime power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uspending individual de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ill find out more tomorrow in talk by Rafael Wysoc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cur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omoyo Linu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th-based security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lined in 2.6.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s a big deal to get a path-based LSM into the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 http://elinux.org/Tomoyo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ations on using Tomoyo with Android at Japan Technical Jamborees 27 and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ntegrity Measur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ows kernel to interact with TPM and ensure trusted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lined in 2.6.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 http://lwn.net/Articles/1373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rch: “Integrity Measurement Architecture IB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scellaneous Stuff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vice Trees for A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ice Trees is a mechanism to pass info from bootloader to ker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upported in X86 and PP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f all platforms supported it, it could allow more uniform device driv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lso, allows for a single binary to run on multiple platfor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 a new hot top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LNA summit 2 – November in the Netherla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ELF profided DLNA hardware and specs to OSS develop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</a:rPr>
              <a:t>Embedded Distributions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979280" y="3468240"/>
            <a:ext cx="624852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mbedded Distribu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b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l transferred control to Linux Foun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dro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umber of devices seem to be expl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9052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aiting to see consumer upt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emo to use Qt (not a big surpri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lwn.net/Articles/341391 (subscriber on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enW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as just a distribution for LinkSys ro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t now supports other targ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r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n’t really know what’s in it y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Resources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3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WN.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lwn.net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f you are not a subscriber, please do 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is is an invaluable community resource that needs your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Linux wik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elinux.org</a:t>
            </a:r>
            <a:r>
              <a:rPr b="0" lang="en-GB" sz="2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3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nux-embedded mailing l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ttp://vger.kernel.org/vger-lists.html#linux-embed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Questions and Answer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</a:rPr>
              <a:t>Interesting Stuff in Recent Kernel Versions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979280" y="3468240"/>
            <a:ext cx="624852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ernel Ver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26 – 13 July 200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27 – 9 Oct 200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28 – 24 Dec 200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29 – 23 Mar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30 – 10 June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31-rc3 – 14 July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2.6.26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GD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ly, an in-kernel debugger gets mainli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2.6.27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trace c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BI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its of Linux-ti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2.6.28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racepo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its of Linux-ti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2.6.29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quash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TR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ernel mode se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bility to set graphics mode in ker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ynchronous Function Ca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358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2.6.3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168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MOYO security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ity measur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aded interrup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L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oru Ueda</dc:creator>
  <dc:description/>
  <dc:language>en-US</dc:language>
  <cp:lastModifiedBy>Tim Bird</cp:lastModifiedBy>
  <dcterms:modified xsi:type="dcterms:W3CDTF">2009-07-16T23:58:01Z</dcterms:modified>
  <cp:revision>37</cp:revision>
  <dc:subject/>
  <dc:title>スライド 1</dc:title>
</cp:coreProperties>
</file>